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43206988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CCE-992E-4BF4-BEEE-DD03DE22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26960" y="2301480"/>
            <a:ext cx="27949320" cy="834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40000"/>
                <a:tab algn="l" pos="6480000"/>
                <a:tab algn="l" pos="972036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26960" y="11499840"/>
            <a:ext cx="2794932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26960" y="25819920"/>
            <a:ext cx="2794932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BCA-4CB2-443C-985E-CCD4A8CD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26960" y="2301480"/>
            <a:ext cx="27949320" cy="834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40000"/>
                <a:tab algn="l" pos="6480000"/>
                <a:tab algn="l" pos="972036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26960" y="11499840"/>
            <a:ext cx="1363896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548120" y="11499840"/>
            <a:ext cx="1363896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26960" y="25819920"/>
            <a:ext cx="1363896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6548120" y="25819920"/>
            <a:ext cx="1363896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351-F50E-4EB9-91FF-E57F99D5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26960" y="2301480"/>
            <a:ext cx="27949320" cy="834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40000"/>
                <a:tab algn="l" pos="6480000"/>
                <a:tab algn="l" pos="972036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26960" y="11499840"/>
            <a:ext cx="899928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676600" y="11499840"/>
            <a:ext cx="899928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1126240" y="11499840"/>
            <a:ext cx="899928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26960" y="25819920"/>
            <a:ext cx="899928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11676600" y="25819920"/>
            <a:ext cx="899928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21126240" y="25819920"/>
            <a:ext cx="899928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201-9619-4A49-A888-70119A7B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26960" y="2301480"/>
            <a:ext cx="27949320" cy="834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40000"/>
                <a:tab algn="l" pos="6480000"/>
                <a:tab algn="l" pos="972036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26960" y="11499840"/>
            <a:ext cx="27949320" cy="274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D1F-A7CD-4FFC-8B50-856BD9F9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26960" y="2301480"/>
            <a:ext cx="27949320" cy="834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40000"/>
                <a:tab algn="l" pos="6480000"/>
                <a:tab algn="l" pos="972036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26960" y="11499840"/>
            <a:ext cx="27949320" cy="27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2AC-17E2-4DC3-9FB9-FB83F998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26960" y="2301480"/>
            <a:ext cx="27949320" cy="834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40000"/>
                <a:tab algn="l" pos="6480000"/>
                <a:tab algn="l" pos="972036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26960" y="11499840"/>
            <a:ext cx="13638960" cy="27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6548120" y="11499840"/>
            <a:ext cx="13638960" cy="27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7BA-9B54-4E25-A8CF-1D21D256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26960" y="2301480"/>
            <a:ext cx="27949320" cy="834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40000"/>
                <a:tab algn="l" pos="6480000"/>
                <a:tab algn="l" pos="972036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BDD-F236-4738-B7D1-C66F171E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26960" y="2301480"/>
            <a:ext cx="27949320" cy="387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549"/>
              </a:spcBef>
              <a:tabLst>
                <a:tab algn="l" pos="0"/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74D-8F9F-4FA6-81D0-EBF10166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26960" y="2301480"/>
            <a:ext cx="27949320" cy="834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40000"/>
                <a:tab algn="l" pos="6480000"/>
                <a:tab algn="l" pos="972036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26960" y="11499840"/>
            <a:ext cx="1363896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6548120" y="11499840"/>
            <a:ext cx="13638960" cy="27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26960" y="25819920"/>
            <a:ext cx="1363896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DCF-892B-47B1-BD3B-E0C07419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26960" y="2301480"/>
            <a:ext cx="27949320" cy="834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40000"/>
                <a:tab algn="l" pos="6480000"/>
                <a:tab algn="l" pos="972036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26960" y="11499840"/>
            <a:ext cx="13638960" cy="27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6548120" y="11499840"/>
            <a:ext cx="1363896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548120" y="25819920"/>
            <a:ext cx="1363896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C83-0F98-439B-893F-C5AEA965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26960" y="2301480"/>
            <a:ext cx="27949320" cy="834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40000"/>
                <a:tab algn="l" pos="6480000"/>
                <a:tab algn="l" pos="972036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26960" y="11499840"/>
            <a:ext cx="1363896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548120" y="11499840"/>
            <a:ext cx="1363896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26960" y="25819920"/>
            <a:ext cx="27949320" cy="13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3240000"/>
                <a:tab algn="l" pos="6480000"/>
                <a:tab algn="l" pos="972036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024-7EC9-4D9E-92CC-83FA3845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26960" y="2301480"/>
            <a:ext cx="27949320" cy="834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40000"/>
                <a:tab algn="l" pos="6480000"/>
                <a:tab algn="l" pos="9720360"/>
              </a:tabLst>
            </a:pPr>
            <a:r>
              <a:rPr b="0" lang="en-US" sz="15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26960" y="11499840"/>
            <a:ext cx="27949320" cy="27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9640" indent="-809640">
              <a:lnSpc>
                <a:spcPct val="90000"/>
              </a:lnSpc>
              <a:spcBef>
                <a:spcPts val="3549"/>
              </a:spcBef>
              <a:buClr>
                <a:srgbClr val="000000"/>
              </a:buClr>
              <a:buFont typeface="Arial"/>
              <a:buChar char="•"/>
              <a:tabLst>
                <a:tab algn="l" pos="3240000"/>
                <a:tab algn="l" pos="6480000"/>
                <a:tab algn="l" pos="972036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1" marL="2428920" indent="-809640">
              <a:lnSpc>
                <a:spcPct val="90000"/>
              </a:lnSpc>
              <a:spcBef>
                <a:spcPts val="3549"/>
              </a:spcBef>
              <a:buClr>
                <a:srgbClr val="000000"/>
              </a:buClr>
              <a:buFont typeface="Arial"/>
              <a:buChar char="•"/>
              <a:tabLst>
                <a:tab algn="l" pos="3240000"/>
                <a:tab algn="l" pos="6480000"/>
                <a:tab algn="l" pos="972036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2" marL="4049640" indent="-809640">
              <a:lnSpc>
                <a:spcPct val="90000"/>
              </a:lnSpc>
              <a:spcBef>
                <a:spcPts val="3549"/>
              </a:spcBef>
              <a:buClr>
                <a:srgbClr val="000000"/>
              </a:buClr>
              <a:buFont typeface="Arial"/>
              <a:buChar char="•"/>
              <a:tabLst>
                <a:tab algn="l" pos="3240000"/>
                <a:tab algn="l" pos="6480000"/>
                <a:tab algn="l" pos="972036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3" marL="5670720" indent="-809640">
              <a:lnSpc>
                <a:spcPct val="90000"/>
              </a:lnSpc>
              <a:spcBef>
                <a:spcPts val="3549"/>
              </a:spcBef>
              <a:buClr>
                <a:srgbClr val="000000"/>
              </a:buClr>
              <a:buFont typeface="Arial"/>
              <a:buChar char="•"/>
              <a:tabLst>
                <a:tab algn="l" pos="3240000"/>
                <a:tab algn="l" pos="6480000"/>
                <a:tab algn="l" pos="972036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4" marL="7289640" indent="-809640">
              <a:lnSpc>
                <a:spcPct val="90000"/>
              </a:lnSpc>
              <a:spcBef>
                <a:spcPts val="3549"/>
              </a:spcBef>
              <a:buClr>
                <a:srgbClr val="000000"/>
              </a:buClr>
              <a:buFont typeface="Arial"/>
              <a:buChar char="•"/>
              <a:tabLst>
                <a:tab algn="l" pos="3240000"/>
                <a:tab algn="l" pos="6480000"/>
                <a:tab algn="l" pos="972036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5" marL="7289640" indent="-809640">
              <a:lnSpc>
                <a:spcPct val="90000"/>
              </a:lnSpc>
              <a:spcBef>
                <a:spcPts val="3549"/>
              </a:spcBef>
              <a:buClr>
                <a:srgbClr val="000000"/>
              </a:buClr>
              <a:buFont typeface="Arial"/>
              <a:buChar char="•"/>
              <a:tabLst>
                <a:tab algn="l" pos="3240000"/>
                <a:tab algn="l" pos="6480000"/>
                <a:tab algn="l" pos="972036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6" marL="7289640" indent="-809640">
              <a:lnSpc>
                <a:spcPct val="90000"/>
              </a:lnSpc>
              <a:spcBef>
                <a:spcPts val="3549"/>
              </a:spcBef>
              <a:buClr>
                <a:srgbClr val="000000"/>
              </a:buClr>
              <a:buFont typeface="Arial"/>
              <a:buChar char="•"/>
              <a:tabLst>
                <a:tab algn="l" pos="3240000"/>
                <a:tab algn="l" pos="6480000"/>
                <a:tab algn="l" pos="972036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27320" y="40044600"/>
            <a:ext cx="72914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732680" y="40044600"/>
            <a:ext cx="1093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885200" y="40044600"/>
            <a:ext cx="72910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4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8AF26-FFAA-464A-B7FE-39471D9DDD4F}" type="slidenum">
              <a:rPr b="0" lang="pt-BR" sz="4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" name="Object 8"/>
          <p:cNvGraphicFramePr/>
          <p:nvPr/>
        </p:nvGraphicFramePr>
        <p:xfrm>
          <a:off x="52560" y="20594520"/>
          <a:ext cx="1596960" cy="171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60" y="20594520"/>
                    <a:ext cx="1596960" cy="17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364"/>
          <p:cNvSpPr/>
          <p:nvPr/>
        </p:nvSpPr>
        <p:spPr>
          <a:xfrm>
            <a:off x="24953760" y="12355560"/>
            <a:ext cx="701532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1369"/>
          <p:cNvSpPr/>
          <p:nvPr/>
        </p:nvSpPr>
        <p:spPr>
          <a:xfrm>
            <a:off x="9477360" y="227160"/>
            <a:ext cx="206121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800" spc="-1" strike="noStrike">
                <a:solidFill>
                  <a:srgbClr val="003366"/>
                </a:solidFill>
                <a:latin typeface="Arial"/>
                <a:ea typeface="MS PGothic"/>
              </a:rPr>
              <a:t>Título do Trabalho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1416"/>
          <p:cNvSpPr/>
          <p:nvPr/>
        </p:nvSpPr>
        <p:spPr>
          <a:xfrm>
            <a:off x="8642520" y="3243240"/>
            <a:ext cx="222818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utores (SOBRENOME, No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1-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1346"/>
          <p:cNvSpPr/>
          <p:nvPr/>
        </p:nvSpPr>
        <p:spPr>
          <a:xfrm>
            <a:off x="16849800" y="8899560"/>
            <a:ext cx="14716080" cy="916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Resultados e Discussã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1346"/>
          <p:cNvSpPr/>
          <p:nvPr/>
        </p:nvSpPr>
        <p:spPr>
          <a:xfrm>
            <a:off x="16822800" y="21012120"/>
            <a:ext cx="14673240" cy="9169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Conclusã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346"/>
          <p:cNvSpPr/>
          <p:nvPr/>
        </p:nvSpPr>
        <p:spPr>
          <a:xfrm>
            <a:off x="657360" y="33123240"/>
            <a:ext cx="14716080" cy="916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MS PGothic"/>
              </a:rPr>
              <a:t>Metodologi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346"/>
          <p:cNvSpPr/>
          <p:nvPr/>
        </p:nvSpPr>
        <p:spPr>
          <a:xfrm>
            <a:off x="17030880" y="33123240"/>
            <a:ext cx="14716080" cy="916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Referências (Opcional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9503"/>
          <p:cNvSpPr/>
          <p:nvPr/>
        </p:nvSpPr>
        <p:spPr>
          <a:xfrm>
            <a:off x="17065800" y="36118800"/>
            <a:ext cx="14581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346"/>
          <p:cNvSpPr/>
          <p:nvPr/>
        </p:nvSpPr>
        <p:spPr>
          <a:xfrm>
            <a:off x="650880" y="21004200"/>
            <a:ext cx="14673240" cy="916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Objetiv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346"/>
          <p:cNvSpPr/>
          <p:nvPr/>
        </p:nvSpPr>
        <p:spPr>
          <a:xfrm>
            <a:off x="866880" y="8885160"/>
            <a:ext cx="14716080" cy="916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MS PGothic"/>
              </a:rPr>
              <a:t>Introduçã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m 2" descr=""/>
          <p:cNvPicPr/>
          <p:nvPr/>
        </p:nvPicPr>
        <p:blipFill>
          <a:blip r:embed="rId1"/>
          <a:srcRect l="6411" t="10123" r="6824" b="7828"/>
          <a:stretch/>
        </p:blipFill>
        <p:spPr>
          <a:xfrm>
            <a:off x="1935000" y="949320"/>
            <a:ext cx="5602320" cy="662148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3"/>
          <p:cNvSpPr/>
          <p:nvPr/>
        </p:nvSpPr>
        <p:spPr>
          <a:xfrm>
            <a:off x="866880" y="10225080"/>
            <a:ext cx="1450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Fgsfhtuhthwrtnykuyyooetyjqreg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hgrtjykyetjy  uyfkyft poyo yftiodfi gpugo yutfi7 5di fgl yfol ydfi tfdi tfgyu 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3:37:08Z</dcterms:created>
  <dc:creator>.Pancada</dc:creator>
  <dc:description/>
  <dc:language>en-US</dc:language>
  <cp:lastModifiedBy>jose geraldo isola</cp:lastModifiedBy>
  <cp:lastPrinted>2000-05-14T13:30:21Z</cp:lastPrinted>
  <dcterms:modified xsi:type="dcterms:W3CDTF">2025-02-25T22:58:40Z</dcterms:modified>
  <cp:revision>411</cp:revision>
  <dc:subject/>
  <dc:title>Painel SBQ 2000</dc:title>
</cp:coreProperties>
</file>